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History</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fontScale="97000"/>
          </a:bodyPr>
          <a:p>
            <a:pPr marL="332640" indent="-3326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dical history of a patient is the most useful and important element in making an accurate diagnosis, much more valuable than either physical examinations or diagnostic tests. The medical interview is the process of gathering data that will lead to an understanding of the disease and the underlying physiological process. To be effective, an interviewer must possess good communication skills and be alert to nonverbal clues as well as to the verbal message. Often, more information is conveyed by nonverbal actions and tone of voice than by words. The objective is to obtain an accurate and comprehensive picture of the patient’s situation, including the nature and timing of symptoms, emotional factors and past medical conditions that may place the patient at greater risk for certain diseases................</a:t>
            </a:r>
            <a:endParaRPr b="0" lang="en-US" sz="2000" spc="-1" strike="noStrike">
              <a:solidFill>
                <a:srgbClr val="000000"/>
              </a:solidFill>
              <a:latin typeface="Arial"/>
            </a:endParaRPr>
          </a:p>
          <a:p>
            <a:pPr marL="332640" indent="-3326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in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n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po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et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spo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p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us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cult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a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medical his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objective of the medical intervie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it difficult to obtain meaningful data from the pat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a complete medical history consist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an account of the present illness inclu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the past medical history so import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hould be mentioned in a family his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y occupational and psychosocial history influence future medical decis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review of body systems provi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basic methods of the physical examination?</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he correct answer:</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word below means nearly the same as “underly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ic          peripheral       indispensable      iness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word below means nearly the same as “dist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fort      pain                 trouble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word below  means nearly the same as “botherso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ertaining      intriguing       tedious         serio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word below means nearly the same as “onse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ish             movement          change           st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word below means nearly the same as “reta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lease         prevent             grasp              continu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sh the sentence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dical interview is.....................................................................</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curacy and usefulness of the medical interview depend on.........................................................................................................</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medications are listed..............................................................</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verall view of the patient’s health is given...................................</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mily history is important because...................................................</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the workplace may be the cause of..................................</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sychosocial history shows...........................................................</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major body systems are reviewed in...............................................</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orking diagnosis is established when.............................................</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s are usually anxious and apprehensive...................................</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correct tense:</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ected that you (finish) your work before you came her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sure that he (write) the report for the meeting by seven o’clock.</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ime next month she (have) an interview with one very important person.</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friend wanted to see what sort of stories he (read) now.</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look for) this interesting book for weeks.</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talk) with her sister, but she stopped as he (come in).</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were very tired; they (study) for that exam for four hours.</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t do that exercise as well as you (do) it up to now.</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get) all the information we (want) when we were at the congress.</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find) it difficult to repeat all these reports every w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tak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components of a complete medical hist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2T21:32:16Z</dcterms:modified>
  <cp:revision>24</cp:revision>
  <dc:subject/>
  <dc:title>Slide 1</dc:title>
</cp:coreProperties>
</file>